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3A88-944C-4F7C-9D2D-420B2E20C0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1BC3-F3EA-4EF0-A6EB-4A68D1A6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8E47-8CA6-4FBC-8A26-1D24E71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8457-A77D-444F-B614-2051EBC1BF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8B38D-F366-40A3-B25D-968BD12952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03C09-AA8B-4EE6-887C-B96AB643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8FCB5-09BE-4383-A43A-1EA2608F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9324C-8E37-427C-A50D-EA92252A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E5AA9-3888-4927-AA62-074FB621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63334-D3D5-486D-9CD8-953EEC10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D41D8-2406-4729-BFD9-93002CD7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5333-62A7-4DC0-BE04-2D59EE32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2D254-0178-4780-8624-56FF5CD5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8D81E-A114-4012-8483-04FDCC6E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B6652-1A1F-4551-B3DF-12FE64F4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2FDCE-95C5-4E07-80A1-2CA12411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D2570-A1DA-44C9-8A32-C7822BE0E5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9361-9C41-4CE9-8FE1-01782F0DD2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7872-2FFF-4111-B748-D4E47503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CA44-EEFF-4831-BA99-BB2723B9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C042-CA1D-420B-8586-9DEE4B9D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DC41-5F7B-414B-90D6-0B0E0FED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5983-61B2-4FA1-B2D4-2F086994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BBC6-1A32-4EB8-BDBB-2C2E4685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0FAE-8AF5-4228-8D11-A4501844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0B87-BAE4-4CAC-B699-9F29FDB6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05BC-13AF-4E39-AADD-2908576F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2548-8E8A-44D2-8C5F-9239DDB4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A55A-55DB-40F4-A305-34566009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67CA-2807-4CFB-9B2A-236CCDC14A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2886-E352-41C2-96DA-2BCB7C6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809F-6851-4A31-B513-7BCBE55B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29E3-EE12-44EC-A7AA-4A53B463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27A3-D084-491D-AF0C-F59507DB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D8AA-0E6F-40A8-AD28-FC335835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5101-148E-4B9A-BAFA-520042C4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5/04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E4A1E9-1897-4F43-96A7-F8988FE22D74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5/04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753F50-18C9-44C8-A107-ACD13D933156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5/04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159225-E95B-4AB4-933B-DDD1BB14FDF6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404640"/>
            <a:ext cx="8136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Calibri"/>
              </a:rPr>
              <a:t>L’OSSERVAZIONE ASTRONOMICA COL BINOCO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2360" y="5950080"/>
            <a:ext cx="1008000" cy="709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24000" y="1773360"/>
            <a:ext cx="4821480" cy="48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77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38172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63272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9056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97160" y="425520"/>
            <a:ext cx="6349680" cy="60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022960" cy="49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80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115920"/>
            <a:ext cx="8064720" cy="66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ffff00"/>
                </a:solidFill>
                <a:uFillTx/>
                <a:latin typeface="Calibri"/>
              </a:rPr>
              <a:t>COSA OSSERVARE</a:t>
            </a: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 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Ecco una concisa descrizione degli oggetti celesti che si possono osservare con un binocolo </a:t>
            </a: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10 x 50</a:t>
            </a: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: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Luna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Ci sono molte cose che possono essere viste sulla Luna con un binocolo, soprattutto nei giorni distanti dalla Luna Piena e nei pressi del “Terminatore” (è la zona fra la parte illuminata della Luna e la parte ancora in ombra) 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I </a:t>
            </a:r>
            <a:r>
              <a:rPr b="0" i="1" lang="it-IT" sz="2400" spc="-1" strike="noStrike">
                <a:solidFill>
                  <a:srgbClr val="ffff00"/>
                </a:solidFill>
                <a:latin typeface="Calibri"/>
              </a:rPr>
              <a:t>Mari</a:t>
            </a: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, le vaste pianure grigie visibili anche ad occhio nudo, possono essere osservati nei loro dettagli: i bordi, il contorno, i crateri sul fondo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I </a:t>
            </a:r>
            <a:r>
              <a:rPr b="0" i="1" lang="it-IT" sz="2400" spc="-1" strike="noStrike">
                <a:solidFill>
                  <a:srgbClr val="ffff00"/>
                </a:solidFill>
                <a:latin typeface="Calibri"/>
              </a:rPr>
              <a:t>Monti, </a:t>
            </a: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le catene montuose delle Alpi, del Caucaso e degli Appennini, presentano alcuni dettagli osservabili anche al binocolo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I </a:t>
            </a:r>
            <a:r>
              <a:rPr b="0" i="1" lang="it-IT" sz="2400" spc="-1" strike="noStrike">
                <a:solidFill>
                  <a:srgbClr val="ffff00"/>
                </a:solidFill>
                <a:latin typeface="Calibri"/>
              </a:rPr>
              <a:t>Crateri</a:t>
            </a: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, che dominano l'intero paesaggio lunare. Si possono osservare cavità di tutte le dimensioni e di tutte le profondità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9640" y="1413000"/>
            <a:ext cx="806472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Pianeti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I binocoli in genere, presentano qualche limite nella visione dei pianeti. </a:t>
            </a:r>
            <a:br>
              <a:rPr sz="2400"/>
            </a:br>
            <a:r>
              <a:rPr b="0" i="1" lang="it-IT" sz="2400" spc="-1" strike="noStrike">
                <a:solidFill>
                  <a:srgbClr val="ffff00"/>
                </a:solidFill>
                <a:latin typeface="Calibri"/>
              </a:rPr>
              <a:t>Venere </a:t>
            </a: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mostra le fasi, </a:t>
            </a:r>
            <a:r>
              <a:rPr b="0" i="1" lang="it-IT" sz="2400" spc="-1" strike="noStrike">
                <a:solidFill>
                  <a:srgbClr val="ffff00"/>
                </a:solidFill>
                <a:latin typeface="Calibri"/>
              </a:rPr>
              <a:t>Marte</a:t>
            </a: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 appare come una luminosa stella arancione, </a:t>
            </a:r>
            <a:r>
              <a:rPr b="0" i="1" lang="it-IT" sz="2400" spc="-1" strike="noStrike">
                <a:solidFill>
                  <a:srgbClr val="ffff00"/>
                </a:solidFill>
                <a:latin typeface="Calibri"/>
              </a:rPr>
              <a:t>Giove </a:t>
            </a: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offre la visione dei 4 satelliti galileiani intorno al pianeta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Ovviamente non è possibile osservare nessun dettaglio specifico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grande maneggevol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(almeno per quelli comu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grande campo vis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(solitamente dell'ordine di alcuni grad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immagine raddrizz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(molto utile per i neofi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visione binocu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it-IT" sz="3200" spc="-1" strike="noStrike">
                <a:solidFill>
                  <a:srgbClr val="ffff00"/>
                </a:solidFill>
                <a:latin typeface="Calibri"/>
              </a:rPr>
              <a:t>(molto riposante e natur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549360"/>
            <a:ext cx="799308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Stelle 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Con un binocolo, è possibile vedere il colore di molte stell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Stelle Doppie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Molte stelle doppie, triple o multiple sono alla portata dei binocoli. Alcune sono anche molto facili da rintracciare ed osservare. Ad esempio: Mizar e Alcor nell'Orsa Maggiore, Albireo nel Cigno, epsilon Lyra, tau nel Toro, teta di Orione, bellissima la tripla beta Monocer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Stelle Variabili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Sono oggetti che cambiano la loro luminosità e dimensione. Alcune possono essere visibili con un binocolo: cefeidi, le stelle del tipo M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11280" y="981000"/>
            <a:ext cx="777564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Ammassi Aperti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Appaiono come una macchia brillante, sempre un po' estesa e circolare.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Si potranno distinguere le varie stelle negli ammassi molto aperti (esempio: Pleiadi), in altri invece sarà necessario usare la visione distolta per osservare le stelle individualmente (esempio: M41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alibri"/>
              </a:rPr>
              <a:t>Ammassi Globulari</a:t>
            </a: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Calibri"/>
              </a:rPr>
              <a:t>Si mostrano compatti, rotondi, poco estesi e brillanti (esempio: M13). Non sarà possibile cogliere le singole stelle. 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476280"/>
            <a:ext cx="8136000" cy="58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Nebulose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In genere, sono oggetti deludenti per il binocolo, fatta eccezione per alcuni, come ad esempio M42 in Orione.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Comete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Sono splendidi soggetti per il binocolo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Galassie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Sono oggetti troppo lontani, piccoli e dalla luminosità troppo debole per poter essere osservati con un binocolo. 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In nessun caso un binocolo potrà mostrare le loro forme reali. 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Anche M31 (la Grande Galassia di Andromeda) appare come macchia di luce nebbiosa, ovale, dalla forma un po' allungata.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alibri"/>
              </a:rPr>
              <a:t>Via Lattea</a:t>
            </a: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 </a:t>
            </a:r>
            <a:br>
              <a:rPr sz="1800"/>
            </a:br>
            <a:r>
              <a:rPr b="0" lang="it-IT" sz="1800" spc="-1" strike="noStrike">
                <a:solidFill>
                  <a:srgbClr val="ffff00"/>
                </a:solidFill>
                <a:latin typeface="Calibri"/>
              </a:rPr>
              <a:t>Al binocolo ci mostra un'esplosione di stelle. Alcune zone sono meno ricche, anzi sembra quasi che non ci siano stelle. In particolare, le regioni del Cigno e dell'Aquila e, d'inverno, l'Unic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6120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520040" cy="56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53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3086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096240" cy="62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98508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4240" y="1268280"/>
            <a:ext cx="7715520" cy="431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47640" y="333360"/>
            <a:ext cx="59770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alibri"/>
              </a:rPr>
              <a:t>LA PUPILLA D’USC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2360" y="981000"/>
            <a:ext cx="8569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Diametro obiettivi(mm)       guadagno occhio      guadagno magnitu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17720"/>
            <a:ext cx="21607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1917720"/>
            <a:ext cx="28083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1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2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61080" y="1917720"/>
            <a:ext cx="18003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3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4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5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5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5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6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alibri"/>
              </a:rPr>
              <a:t>6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2800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tente PC</cp:lastModifiedBy>
  <dcterms:modified xsi:type="dcterms:W3CDTF">2015-04-25T09:18:12Z</dcterms:modified>
  <cp:revision>1</cp:revision>
  <dc:subject/>
  <dc:title>Diapositiva 1</dc:title>
</cp:coreProperties>
</file>